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17B-6FC0-42B8-A20A-9911A4EE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92C-5FDB-4914-B3F8-26AB0241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ACF-ECC8-47E7-B9F9-4AF21C5A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A88-196D-447C-A554-AE456977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B96-6919-47A8-8E9B-E502676D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A95-904C-461F-900F-D488D00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B38-640E-470C-B4EC-00CAC568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93E-7F61-4E1B-826E-967F7AA7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268-94B4-4C5C-AF08-BF441EAD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75D-E3E7-43EA-8EC6-FD3DE113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C67-7725-4920-B7CB-A6A7BFA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F79-F0C5-4CD8-A92D-D4F187F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37C4-ADBA-4225-98B7-E7C921BD6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17400"/>
            <a:ext cx="777240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1536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96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1720"/>
            <a:ext cx="77821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88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002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32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8487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741240"/>
            <a:ext cx="7391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714240"/>
            <a:ext cx="662940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700200"/>
            <a:ext cx="74674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79320"/>
            <a:ext cx="73915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90480"/>
            <a:ext cx="81536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0:21:55Z</dcterms:created>
  <dc:creator>Lions Park</dc:creator>
  <dc:description/>
  <dc:language>en-US</dc:language>
  <cp:lastModifiedBy>Lions Park</cp:lastModifiedBy>
  <dcterms:modified xsi:type="dcterms:W3CDTF">2007-03-14T20:55:25Z</dcterms:modified>
  <cp:revision>2</cp:revision>
  <dc:subject/>
  <dc:title>PowerPoint Presentation</dc:title>
</cp:coreProperties>
</file>